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F735-B82C-4339-B705-C5D3E32A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610-4EF6-4D96-AAB9-9CA336AA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DFF1-42CB-43A1-AFF7-FF9B1C27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12A9-1B05-4806-9F7C-693D79D1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C1E-A60E-4449-9B75-6E89FD15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97A-D379-4E94-ACE7-718A447D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359-353E-4E28-B071-C7B5F688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D997-7FD9-4AEA-BCEF-FAEBAB0A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62B2-8968-4F93-8620-EDBBD28B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0BD5-9D68-45C7-80C4-B15A8469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0C30-B273-439E-BCA1-05ACF4B1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035-D836-4FBA-AB76-09B9118C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448C-459B-40A6-B788-E16F442E9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nel &amp; PCO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09480" y="3657600"/>
            <a:ext cx="5029200" cy="1066680"/>
            <a:chOff x="609480" y="3657600"/>
            <a:chExt cx="5029200" cy="1066680"/>
          </a:xfrm>
        </p:grpSpPr>
        <p:sp>
          <p:nvSpPr>
            <p:cNvPr id="43" name=""/>
            <p:cNvSpPr/>
            <p:nvPr/>
          </p:nvSpPr>
          <p:spPr>
            <a:xfrm>
              <a:off x="3733560" y="365760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657600"/>
              <a:ext cx="26668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09480" y="2057400"/>
            <a:ext cx="4114800" cy="1600200"/>
            <a:chOff x="609480" y="2057400"/>
            <a:chExt cx="4114800" cy="1600200"/>
          </a:xfrm>
        </p:grpSpPr>
        <p:sp>
          <p:nvSpPr>
            <p:cNvPr id="46" name=""/>
            <p:cNvSpPr/>
            <p:nvPr/>
          </p:nvSpPr>
          <p:spPr>
            <a:xfrm>
              <a:off x="609480" y="2057400"/>
              <a:ext cx="160020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i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t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P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5640" y="304812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733560" y="304812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76360" y="3352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09480" y="4724280"/>
            <a:ext cx="7925040" cy="1907640"/>
            <a:chOff x="609480" y="4724280"/>
            <a:chExt cx="7925040" cy="1907640"/>
          </a:xfrm>
        </p:grpSpPr>
        <p:sp>
          <p:nvSpPr>
            <p:cNvPr id="51" name=""/>
            <p:cNvSpPr/>
            <p:nvPr/>
          </p:nvSpPr>
          <p:spPr>
            <a:xfrm>
              <a:off x="3733920" y="5257800"/>
              <a:ext cx="48006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, Linux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4724280"/>
              <a:ext cx="266724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ucleus, PSO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33920" y="4724280"/>
              <a:ext cx="480060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C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71600" y="60958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10080" y="61722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st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nel &amp; PCO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5257800"/>
            <a:ext cx="480060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724280"/>
            <a:ext cx="266724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4724280"/>
            <a:ext cx="480060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3657600"/>
            <a:ext cx="5029200" cy="1066680"/>
            <a:chOff x="609480" y="3657600"/>
            <a:chExt cx="5029200" cy="1066680"/>
          </a:xfrm>
        </p:grpSpPr>
        <p:sp>
          <p:nvSpPr>
            <p:cNvPr id="61" name=""/>
            <p:cNvSpPr/>
            <p:nvPr/>
          </p:nvSpPr>
          <p:spPr>
            <a:xfrm>
              <a:off x="3733560" y="365760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9480" y="365760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09480" y="205740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3048120"/>
            <a:ext cx="990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048120"/>
            <a:ext cx="99036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352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60958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800600" y="1905120"/>
            <a:ext cx="1866960" cy="2819160"/>
            <a:chOff x="4800600" y="1905120"/>
            <a:chExt cx="1866960" cy="2819160"/>
          </a:xfrm>
        </p:grpSpPr>
        <p:sp>
          <p:nvSpPr>
            <p:cNvPr id="70" name=""/>
            <p:cNvSpPr/>
            <p:nvPr/>
          </p:nvSpPr>
          <p:spPr>
            <a:xfrm>
              <a:off x="4800600" y="1905120"/>
              <a:ext cx="838080" cy="1752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an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53160" y="3657600"/>
              <a:ext cx="914400" cy="10666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743880" y="3657600"/>
            <a:ext cx="9522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3657600"/>
            <a:ext cx="76212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48720" y="3505320"/>
            <a:ext cx="76176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705720" y="1905120"/>
            <a:ext cx="2006640" cy="2514600"/>
            <a:chOff x="6705720" y="1905120"/>
            <a:chExt cx="2006640" cy="2514600"/>
          </a:xfrm>
        </p:grpSpPr>
        <p:sp>
          <p:nvSpPr>
            <p:cNvPr id="76" name=""/>
            <p:cNvSpPr/>
            <p:nvPr/>
          </p:nvSpPr>
          <p:spPr>
            <a:xfrm>
              <a:off x="7950240" y="335268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05720" y="190512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0592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nel &amp; PCO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5257800"/>
            <a:ext cx="480060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724280"/>
            <a:ext cx="266724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4724280"/>
            <a:ext cx="480060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09480" y="3657600"/>
            <a:ext cx="5029200" cy="1066680"/>
            <a:chOff x="609480" y="3657600"/>
            <a:chExt cx="5029200" cy="1066680"/>
          </a:xfrm>
        </p:grpSpPr>
        <p:sp>
          <p:nvSpPr>
            <p:cNvPr id="84" name=""/>
            <p:cNvSpPr/>
            <p:nvPr/>
          </p:nvSpPr>
          <p:spPr>
            <a:xfrm>
              <a:off x="3733560" y="365760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480" y="365760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09480" y="205740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3048120"/>
            <a:ext cx="990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3048120"/>
            <a:ext cx="60948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3352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60958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1905120"/>
            <a:ext cx="533160" cy="1752480"/>
          </a:xfrm>
          <a:prstGeom prst="rect">
            <a:avLst/>
          </a:prstGeom>
          <a:solidFill>
            <a:srgbClr val="0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3160" y="3657600"/>
            <a:ext cx="9144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43880" y="3657600"/>
            <a:ext cx="9522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72400" y="3657600"/>
            <a:ext cx="76212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48720" y="3505320"/>
            <a:ext cx="76176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81560" y="1905120"/>
            <a:ext cx="6858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705720" y="1905120"/>
            <a:ext cx="2006640" cy="2514600"/>
            <a:chOff x="6705720" y="1905120"/>
            <a:chExt cx="2006640" cy="2514600"/>
          </a:xfrm>
        </p:grpSpPr>
        <p:sp>
          <p:nvSpPr>
            <p:cNvPr id="99" name=""/>
            <p:cNvSpPr/>
            <p:nvPr/>
          </p:nvSpPr>
          <p:spPr>
            <a:xfrm>
              <a:off x="7950240" y="335268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05720" y="190512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0592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0-10-17T07:41:10Z</cp:lastPrinted>
  <dcterms:modified xsi:type="dcterms:W3CDTF">2000-10-18T14:23:43Z</dcterms:modified>
  <cp:revision>51</cp:revision>
  <dc:subject/>
  <dc:title>xPanel &amp; PCO2</dc:title>
</cp:coreProperties>
</file>